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02%20nub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F86-073B-43A6-869A-F55E2378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7F3-C67F-4EB3-ACE5-B89A4E4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8C9-6B18-4B9C-8656-9011DC62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CC9-DCA7-4A1B-B1E2-BF1AC6B9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007-2762-4C9F-AB32-24A65027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CA3-DB7D-40D4-8BB1-888ACC9C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421-3EFD-458A-9996-9A8ACED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D42-DBDE-4E58-B444-0BF3D6A1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4CD-56FA-4CB6-B394-66F46398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9FF-AB6A-42D2-869A-BFFC834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237-F25C-4082-80FC-E1A9F44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33A-E589-4962-9181-798F442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4055-E43E-440B-92BE-868F3940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2%20nubes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emondedesarts.com/images/Pissarro29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es/imgres?imgurl=http://www.cssh.qc.ca/ecoles/simon/museedesenfants.quebec/Peintres/Degas/Posters/Degas_big/classe_danse.jpg&amp;imgrefurl=http://www.cssh.qc.ca/ecoles/simon/museedesenfants.quebec/st-simon2/Students/Annabelle/degas/&amp;h=800&amp;w=705&amp;sz=82&amp;tbnid=QV-cpeIuDCQw8M:&amp;tbnh=142&amp;tbnw=125&amp;hl=es&amp;start=2&amp;prev=/images%3Fq%3Ddegas%26svnum%3D10%26hl%3Des%26lr%3D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es/imgres?imgurl=http://home.att.net/~hoo12/classart/Manet.jpg&amp;imgrefurl=http://home.att.net/~hoo12/classart02.html&amp;h=480&amp;w=640&amp;sz=55&amp;tbnid=NH1zBFskdiJpfM:&amp;tbnh=101&amp;tbnw=135&amp;hl=es&amp;start=14&amp;prev=/images%3Fq%3Dmanet%26svnum%3D10%26hl%3Des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es/imgres?imgurl=http://www.personal.us.es/jcordero/LUZ/images/obras/Sorolla.jpg&amp;imgrefurl=http://www.personal.us.es/jcordero/LUZ/reflexion.htm&amp;h=500&amp;w=554&amp;sz=64&amp;tbnid=1lEUuMcyzyPJ-M:&amp;tbnh=117&amp;tbnw=130&amp;hl=es&amp;start=1&amp;prev=/images%3Fq%3Dsorolla%26svnum%3D10%26hl%3Des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es/imgres?imgurl=http://www.hku.hk/rss/res_proj/97/renoir.jpg&amp;imgrefurl=http://www.hku.hk/rss/res_proj/97/97.htm&amp;h=1025&amp;w=760&amp;sz=186&amp;tbnid=1hkfnCQi6aoHDM:&amp;tbnh=150&amp;tbnw=111&amp;hl=es&amp;start=7&amp;prev=/images%3Fq%3Drenoir%26svnum%3D10%26hl%3Des%26lr%3D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8610480" cy="666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Times New Roman"/>
              </a:rPr>
              <a:t>L’impressionis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unrise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152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première exposition “Impressionist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838080"/>
            <a:ext cx="79246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tés par le jury du Salon, le groupe qui décidait quelles peintures seraient vues dans les expositions à Paris, quelques artistes avec les nouvelles idées sur l’art ont montré leurs tableaux dans leur propre exposition à l’atelier Nadar sur le boulevard des Capucines le 15 avril de 187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tte nouvelle peinture a reçu beaucoup de critique et de ridicule. Le nom “impressionisme” a été donné sarcastiquement au mouvement dans une critique dans le journal “Le Chariavari” en réaction d’une peinture de Monet qui s’appel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ression -soleil lev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6280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important du style impressionniste, c’est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’impression générale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’une scène ou d’un objet et l’utilization des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eurs pure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des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uches de pinceau petite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ur simuler la lumière réfléch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ressionnisme donne à 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iè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e importante nouvelle, en juxtaposant des touches colorées qui semblent être des rayons lumineu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’est-ce que c’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93432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ressionnisme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 mouvement artistique de la fin du 19ème siècle en France, a essayé de registrer la réalité avec les effets de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lumière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les couleurs transitoires illustrés objectivement et fidèlement. Peintre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 plein air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lieu de dans un atelier était important pour réaliser les effets changeants de la lumière. Ils ont mis les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eurs pures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 les les toiles sans les mélanger sur la palet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6172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Impressionistes principaux étaient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ude Monet, Pierre Auguste Renoir, Camille Pissarro, Edgar Degas, et Paul Cézann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’oeuvre du peintre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ouard Mane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eaucoup impressioné et influé sur le groupe et il a adopté une approche impressioniste lui-même vers 1873.</a:t>
            </a:r>
            <a:r>
              <a:rPr b="0" lang="en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6172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Impressionistes principaux étaient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ude Monet, Pierre Auguste Renoir, Camille Pissarro, Edgar Degas, et Paul Cézann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’oeuvre du peintre </a:t>
            </a:r>
            <a:r>
              <a:rPr b="0" lang="e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ouard Mane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eaucoup impressioné et influé sur le groupe et il a adopté une approche impressioniste lui-même vers 1873.</a:t>
            </a:r>
            <a:r>
              <a:rPr b="0" lang="en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ein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Claude M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Camille Pisar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dgar Deg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douard M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Joaquin Soro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Auguste Renoir</a:t>
            </a:r>
            <a:r>
              <a:rPr b="0" lang="ca-E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04920"/>
            <a:ext cx="1905120" cy="153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 flipV="1">
            <a:off x="2057400" y="21337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81280" y="1981080"/>
            <a:ext cx="2286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1752480"/>
            <a:ext cx="142884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 flipV="1">
            <a:off x="3200400" y="2514600"/>
            <a:ext cx="3886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3429000"/>
            <a:ext cx="154296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 flipV="1">
            <a:off x="3581280" y="4038120"/>
            <a:ext cx="3200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10280" y="4724280"/>
            <a:ext cx="1486080" cy="13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657600" y="5029200"/>
            <a:ext cx="3048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5257800"/>
            <a:ext cx="1014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7600" y="5562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514600" y="304920"/>
            <a:ext cx="2286000" cy="17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feguerbois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5296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1752480"/>
            <a:ext cx="27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 groupe des Batignol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été le premier nom du groupe des Impressionnistes de 1869 à 1875, à l'époque où ils fréquentaient le café Guerbois, 2, grande-rue des Batignolles, à côté de l’atlelier de Mo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4572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Café Guerbo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 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8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905120"/>
            <a:ext cx="6629400" cy="357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Impressionistes ont essayé de présenter un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ut ensemble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ù il n’y avait pas de détails où les détails ne se voient pas clairement. L’effet total est l’import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s ont utilisé les couleurs pures sans les mélanger sur la palette et ils ont mis petites traces des couleurs pures l’une à côté de l’autre sur la toile pour produire un effet. Ils n’ont pas utilisé les marron ni les noirs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914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Thè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es Scènes de tous les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a N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es 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a Bourgeoisie au loisir (de plein 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es Ouv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a Vie boh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Les Endroits où les Parisiens passaient le temps libre (la pl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Verdana"/>
              </a:rPr>
              <a:t>La Nature morte</a:t>
            </a:r>
            <a:r>
              <a:rPr b="0" lang="ca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10280" y="3429000"/>
            <a:ext cx="1676520" cy="13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 flipV="1">
            <a:off x="2362320" y="167616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00400" y="2057400"/>
            <a:ext cx="4191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0400" y="419076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34320" y="5029200"/>
            <a:ext cx="1676160" cy="12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 flipV="1">
            <a:off x="1828800" y="4267080"/>
            <a:ext cx="4952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181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791320" y="457200"/>
            <a:ext cx="1531800" cy="11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cezanne_natura" descr=""/>
          <p:cNvPicPr/>
          <p:nvPr/>
        </p:nvPicPr>
        <p:blipFill>
          <a:blip r:embed="rId5"/>
          <a:stretch/>
        </p:blipFill>
        <p:spPr>
          <a:xfrm>
            <a:off x="4648320" y="5334120"/>
            <a:ext cx="1736640" cy="1360440"/>
          </a:xfrm>
          <a:prstGeom prst="rect">
            <a:avLst/>
          </a:prstGeom>
          <a:ln w="0">
            <a:noFill/>
          </a:ln>
        </p:spPr>
      </p:pic>
      <p:pic>
        <p:nvPicPr>
          <p:cNvPr id="84" name="bardesfoliesbergeres" descr=""/>
          <p:cNvPicPr/>
          <p:nvPr/>
        </p:nvPicPr>
        <p:blipFill>
          <a:blip r:embed="rId6"/>
          <a:stretch/>
        </p:blipFill>
        <p:spPr>
          <a:xfrm>
            <a:off x="4724280" y="3657600"/>
            <a:ext cx="1791000" cy="13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bougival" descr=""/>
          <p:cNvPicPr/>
          <p:nvPr/>
        </p:nvPicPr>
        <p:blipFill>
          <a:blip r:embed="rId7"/>
          <a:stretch/>
        </p:blipFill>
        <p:spPr>
          <a:xfrm>
            <a:off x="7467480" y="1295280"/>
            <a:ext cx="1470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laundress" descr=""/>
          <p:cNvPicPr/>
          <p:nvPr/>
        </p:nvPicPr>
        <p:blipFill>
          <a:blip r:embed="rId8"/>
          <a:stretch/>
        </p:blipFill>
        <p:spPr>
          <a:xfrm>
            <a:off x="5410080" y="1752480"/>
            <a:ext cx="98928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2895480" y="31240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enoir.parapluies" descr=""/>
          <p:cNvPicPr/>
          <p:nvPr/>
        </p:nvPicPr>
        <p:blipFill>
          <a:blip r:embed="rId9"/>
          <a:stretch/>
        </p:blipFill>
        <p:spPr>
          <a:xfrm>
            <a:off x="3809880" y="228600"/>
            <a:ext cx="1239840" cy="175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2438280" y="10663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8:03:07Z</dcterms:created>
  <dc:creator>dsa'ljg'prg</dc:creator>
  <dc:description/>
  <dc:language>en-US</dc:language>
  <cp:lastModifiedBy>dsa'ljg'prg</cp:lastModifiedBy>
  <dcterms:modified xsi:type="dcterms:W3CDTF">2008-06-11T00:08:47Z</dcterms:modified>
  <cp:revision>6</cp:revision>
  <dc:subject/>
  <dc:title>L’impressionisme</dc:title>
</cp:coreProperties>
</file>